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EAB62-965D-4C09-A435-5D2F42C5E32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113D3-57B3-4C2F-ABC2-7C1F4B82F94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504A4-216B-42B3-8123-CEE330B3C5F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06D0-4443-4001-8FF1-DC65DE53C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246D-40D1-4297-A186-88CF546BA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7AB3-53F5-4982-853B-A2261B8E6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A505-872A-4AC2-87E9-03233311D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848EB-2373-40DC-A381-47307D8DF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82207-B518-428F-899A-0F446AD64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3ED96-DA9E-4FB2-9774-C19092A6E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AFE97-8B22-40C2-987F-C0A978987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B2C0E-2A76-4339-8726-692BA58C0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A2062-FD46-4626-A3C5-BBDB94E2C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C90EB-6E72-4DBB-B04B-D52AEECA8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910E-017C-40D4-8C5D-E3BDB1712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35FFB-9DED-4261-8C9F-CC807581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0CF36-7F1C-4850-9A4F-FC26FB7B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CE0F2-2784-4E8D-BCA5-D05BC9AD8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6D4A6-914C-481C-9341-BF6152FFE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FAD3E-C01C-4D65-9D3C-E0C3F211B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A4176-AD9B-489E-A3A1-CE7ADE0F9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7A6C6-4190-429F-AF76-8F060B538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B9B54-4168-42B9-A043-07EDB1638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C9C17-A94F-4286-BD07-51D0FE62B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0206B-91D8-477F-9ABE-7C06CEB1A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F397-0F52-4CEE-B592-E5A81DF65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D39E1-F051-4F03-BAD9-ED1E8EBB3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8E69D-CB8E-4A36-A718-71386AFC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5D704-CA42-4A14-B52C-F8F93EAD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F33AF-C08F-4F96-9068-A2C4147F1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AAB83-1485-4EAB-A820-BB2F10D79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0BFFF-45DD-488F-9823-E2DE877C6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F255E-E5D6-4134-AA2F-35F680221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5B297-BB0B-4F04-AE37-1E4E91505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1D32B-984E-46B4-B5A4-39ED67F4C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144F8-9748-4F99-9A8F-2F00F2A7B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9054-22D8-4BD8-A0CE-3300D0BAA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D8608-BDC0-489C-8BC7-BD252E543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0CC8B-5431-4CF0-A582-D233C37BF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D522C-08FA-428D-B841-747018575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73BB0-B892-4497-9B38-92835E6A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2F4F9-2C13-40D7-B236-21ED8765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DE954-EF52-4A1C-BFB6-DA2C016C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69A5F-B06C-4997-8C01-290C04BC9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89A57-9F0D-4FED-948F-46F566FD7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BBF5D-963A-47D5-A124-E11872E01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90C1D-78D8-4A11-A75D-C42CE2345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B935-82A7-46F4-8C7E-B308B16F9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DAB69-0071-493F-B219-A5916AFDE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F1E55F-F4BF-48B3-A369-86CAA8C4D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FACF0-FFF2-4764-87DE-E5C25D900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F63332-B0D1-4D1C-9695-202A12D62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CFCE86-9E27-46C3-8D41-1FDFA2EED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5DCFA1-3640-4D6F-AC3A-4D26771F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E925C-13ED-41DC-9E72-44977419A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97C16C-F039-4DC3-8AF4-2EE26618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DD406-EDF3-4CD9-9B9E-CED2700EC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F7F29-6437-4545-9A8B-C8001227D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EED6-1A6B-4B2F-B6BB-960B4DA96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3F5152-D918-4636-838E-D870C3988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DE94-339A-40A8-9404-F8F0147DA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F01E-F3A9-48E8-83AA-AC42F66D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F9DA-FBFF-420E-AB9E-92390F07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90AB1-21D9-4088-8717-7460746403F0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8D25C-42A3-4AEF-978A-B3AEF7F7C98D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0FAB2-D406-4E53-ACE1-AFAA51D4C756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0B161-FE81-4014-9359-FB2B4597F17D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533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9714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В.А.Власенко,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400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5C216-0465-41F1-BE85-6122A86DECF1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1413000"/>
            <a:ext cx="8229600" cy="2363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Возможности физической культуры как средства повышения моральной и психологической устойчивости  к экзаменационным испытаниям</a:t>
            </a:r>
            <a:br>
              <a:rPr sz="4000"/>
            </a:br>
            <a:r>
              <a:rPr b="1" lang="en-US" sz="1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ИЗ ОПЫТА РАБОТЫ ПО ПРИМЕНЕНИЮ ФОРМИРУЮЩЕГО ОЦЕНИВАНИЯ)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479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1000"/>
          </a:bodyPr>
          <a:p>
            <a:pPr marL="111600" indent="-111600"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утагарова Люция Рифовна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11600" indent="-111600"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читель физической культуры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11600" indent="-111600"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АОУ «Гимназия № 33» г. Перм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ирующее оценивание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Цель формирующей оценки - способствовать улучшению результатов каждого отдельно взятого ученика</a:t>
            </a:r>
            <a:r>
              <a:rPr b="0" lang="ru-RU" sz="48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и и ожидаемые результаты формирующего оценивания: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352440" y="1339920"/>
          <a:ext cx="8510400" cy="5227560"/>
        </p:xfrm>
        <a:graphic>
          <a:graphicData uri="http://schemas.openxmlformats.org/drawingml/2006/table">
            <a:tbl>
              <a:tblPr/>
              <a:tblGrid>
                <a:gridCol w="3003480"/>
                <a:gridCol w="5506920"/>
              </a:tblGrid>
              <a:tr h="13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ить потребности учени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уализация знаний по теме, субъектного опы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ов интереса к тем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отвращение неправильного понимания вопро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ощрить саморегуляцию и сотрудниче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ивание навыков к самостоятельной работе и сотрудничеству для использования разнообразных ресурсов и инструмен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уществить мониторинг прогрес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явление и самоопределение учащимися слабых сторон, подтверждение сильных и обеспечение более глубокого поним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рить понимание и поощрить метапозн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ствует применению знаний в новой ситуации, обобщению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1773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Ebrima"/>
              </a:rPr>
              <a:t>Что такое формирующее оценивание или оценивание для обучения?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914400" y="2428920"/>
            <a:ext cx="7772400" cy="39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ценивание это больше, чем маркировк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ценивание — это обратная связь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ценивание направляет учени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1487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ирующее оценивание для </a:t>
            </a:r>
            <a:r>
              <a:rPr b="0" lang="ru-RU" sz="45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обучающихся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914400" y="2214360"/>
            <a:ext cx="777240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b5edfd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помогать учиться на ошибках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b5edfd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помогать понять, что важно;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b5edfd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помогать понять, что у них получается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b5edfd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помогать обнаруживать, что они не знают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b5edfd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помогать обнаруживать, что они не умеют делать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2400" cy="1559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ирующее оценивание позволяет </a:t>
            </a:r>
            <a:r>
              <a:rPr b="0" lang="ru-RU" sz="45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учителю</a:t>
            </a:r>
            <a:r>
              <a:rPr b="0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914400" y="2285640"/>
            <a:ext cx="7772400" cy="40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b5edfd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ко сформулировать образовательный результат, подлежащий формированию и оценке в каждом конкретном случае, и организовать в соответствии с этим свою работу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b5edfd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елать учащегося субъектом образовательной и оценочной деятельности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1416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хнологии формирующего оценивания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 (минутный) обзор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-обзор (проводится в конце урока)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Что изучали? Назовите тему урока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С какими заданиями ты справлялся без помощи учителя, одноклассника?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пределите наиболее важное в этом уроке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Что вызвало трудности, осталось неясным?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Что хотелось бы узнать по теме дополнительно?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Что у меня получилось лучше всего?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Что мне необходимо усовершенствовать?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alibri"/>
              </a:rPr>
              <a:t>Тема урока</a:t>
            </a: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  Развитие силовых качеств. Подготовка к сдаче норм ГТО испытания «Сгибание-разгибание рук в упоре лежа» </a:t>
            </a:r>
            <a:br>
              <a:rPr sz="2400"/>
            </a:b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95280" y="13410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12760" indent="-212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Цель урока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Для учителя  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Организовать контрольно-оценочную деятельность по выявлению точечных затруднений при выполнении техники  через работу в парах и  анализ видеозаписи собственного выполнения технического действия (обязательный норматив  «Сгибание-разгибание рук в упоре лежа»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Для учащихся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Определить критерии оценивания выполнения  техники норматива ГТО  - «Сгибание-разгибание рук в упоре лежа»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Заполнить таблицу самооценки  выполнения техники  выполнении сгибания и разгибания рук в упоре лежа («Отжимания») по выработанным критериям, применяя личные гаджеты,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ыявить затруднения, для устранения ошибок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Прогнозируемый результат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Знают контрольные точки техники «Отжимания», безопасного для здоровья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Фиксируют контрольные точки у партнера при работе в парах  и определяют свои затруднения при просмотре видеозаписи собственного выполнения приседания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Умеют объективно оценивать, по выработанным критериям, технику «отжимани», безопасного для здоровья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Таблица самооценки 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1"/>
          <a:srcRect l="11109" t="28110" r="32367" b="14444"/>
          <a:stretch/>
        </p:blipFill>
        <p:spPr>
          <a:xfrm>
            <a:off x="826920" y="2060640"/>
            <a:ext cx="7740720" cy="44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7" name="Picture 2" descr=""/>
          <p:cNvPicPr/>
          <p:nvPr/>
        </p:nvPicPr>
        <p:blipFill>
          <a:blip r:embed="rId1"/>
          <a:srcRect l="26163" t="34218" r="25804" b="39724"/>
          <a:stretch/>
        </p:blipFill>
        <p:spPr>
          <a:xfrm>
            <a:off x="250920" y="620640"/>
            <a:ext cx="8497800" cy="25923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" descr=""/>
          <p:cNvPicPr/>
          <p:nvPr/>
        </p:nvPicPr>
        <p:blipFill>
          <a:blip r:embed="rId2"/>
          <a:srcRect l="24174" t="27470" r="23253" b="34798"/>
          <a:stretch/>
        </p:blipFill>
        <p:spPr>
          <a:xfrm>
            <a:off x="73080" y="2997360"/>
            <a:ext cx="9070920" cy="36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сихологическая устойчивость — это личностная черта, которая во многом определяет, насколько эффективно мы справляемся с проблемами, стрессами и давлением, независимо от обстоятельст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тресс - состояние сильного и длительного психологического напряжения, которое возникает у человека, когда его нервная система получает эмоциональную перегрузк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Развитие Физических качеств. Подготовка к сдаче норм ГТО норматив «Поднимание туловища из положения лежа»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324000" y="148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Цель урока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Для учителя  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Организовать познавательную  деятельность по выявлению точечных затруднений при выполнении норматива  ГТО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Для учащихся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ыявить затруднения в выполнении норматива ГТО по силовой подготовке «Поднимание туловища из положения лежа»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ыделить группу упражнений, направленных на подготовку учащихся к выполнению норматива ГТО по силовой подготовке.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Прогнозируемый результат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 конце урока учащиеся при выполнении различных упражнений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ыделяют группы мышц, которые задействовано в данном упражнении на станции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На основе работы мышечных групп выделяют 3 вида упражнений, при систематическом выполнении которых смогут подготовиться к результативной сдаче норм ГТО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7 станций. Работа в группах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4" name="Picture 3" descr=""/>
          <p:cNvPicPr/>
          <p:nvPr/>
        </p:nvPicPr>
        <p:blipFill>
          <a:blip r:embed="rId1"/>
          <a:srcRect l="12185" t="27470" r="21410" b="8548"/>
          <a:stretch/>
        </p:blipFill>
        <p:spPr>
          <a:xfrm>
            <a:off x="250920" y="1700280"/>
            <a:ext cx="85089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6" name="Picture 2" descr=""/>
          <p:cNvPicPr/>
          <p:nvPr/>
        </p:nvPicPr>
        <p:blipFill>
          <a:blip r:embed="rId1"/>
          <a:srcRect l="35244" t="20910" r="36166" b="10192"/>
          <a:stretch/>
        </p:blipFill>
        <p:spPr>
          <a:xfrm>
            <a:off x="2340000" y="333360"/>
            <a:ext cx="4535640" cy="61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ИРУЮЩЕЕ ОЦЕНИВАНИЕ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28400" y="1784520"/>
            <a:ext cx="8258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ценивается не только результат, но и процесс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Носит системный характер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страивается в личностно-ориентированное обучени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Ориентировано на обучающегос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Отслеживается прогресс каждого обучающегос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Ориентировано на формирование личностных и метапредметных умений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Ebrima"/>
              </a:rPr>
              <a:t>Памятка 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Ebrima"/>
              </a:rPr>
              <a:t>по применению формирующего оценивания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914400" y="1784160"/>
            <a:ext cx="7772400" cy="47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1. 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Оцениваем п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роцесс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2. В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ыставление отметки и оценивание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– разные вещи!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3. В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ыставляя своему ученику отметку  за работу на уроке или в четверти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: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оценивае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м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его работу по определенным критериям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ученик знаком с теми критериями, по которым его оценивают (причем они доступны для его понимания)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ученик 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в процессе работы сам пытается оценить качество своей работы, сверяясь с этими критериями и получая  комментарии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учителя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ученик 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видит, где конкретно он пока не достиг нужного результата и корректирует свою деятельность, 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т.е. 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ищ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ет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пути 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коррекции 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выявленны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х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недостатк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ов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Благодарю за внимание!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На психологическом и поведенческом уровнях занятия ФК полезны и могут способствовать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 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рганизации и упорядочиванию активност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иведению действий и мыслей в порядо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лучению ощущения контроля над ситуацией, дефицит которого испытывает человек во время стресс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Повышению самооценки и уверенности в себ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нятия спортом могут приносить радость и удовлетворение от достижения даже небольших результатов             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r>
              <a:rPr b="1" i="1" lang="ru-RU" sz="3200" spc="-1" strike="noStrike">
                <a:solidFill>
                  <a:srgbClr val="04617b"/>
                </a:solidFill>
                <a:latin typeface="Calibri"/>
              </a:rPr>
              <a:t>Повышение самооценки и уверенности в себе</a:t>
            </a:r>
            <a:br>
              <a:rPr sz="28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Есть ли  у Вас  в работе  проблемы в оценивании обучающихся на уроках ФК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Если Да, то какие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к технология оценивания может повлиять на повышение самооценки и уверенность в себе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Есть ли проблемы в работе со старшеклассницами и старшеклассниками? Какаие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1059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блемы оценочной деятельности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Verdana"/>
              </a:rPr>
              <a:t>субъективизм школьной отметки;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Verdana"/>
              </a:rPr>
              <a:t>недостаточная разработанность критериев оценивания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Verdana"/>
              </a:rPr>
              <a:t>существующая система оценивания отражает </a:t>
            </a:r>
            <a:r>
              <a:rPr b="0" i="1" lang="ru-RU" sz="2700" spc="-1" strike="noStrike">
                <a:solidFill>
                  <a:srgbClr val="ff0000"/>
                </a:solidFill>
                <a:latin typeface="Times New Roman"/>
                <a:ea typeface="Verdana"/>
              </a:rPr>
              <a:t>результат развития физических качеств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Verdana"/>
              </a:rPr>
              <a:t>, а не процесс их усвоения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Verdana"/>
              </a:rPr>
              <a:t>При оценивании техники двигательных действий зачастую ставим отметки не выделяя критерии оценивания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Verdana"/>
              </a:rPr>
              <a:t>отсутствие в отметке конструктивной информации о том, что именно является причиной низкого или высокого балл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ункции оценивания: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68360" y="227664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мулирующа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ностическа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эффективност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адекватной самооценк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мотиваци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я в межличностных отношениях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0000"/>
                </a:solidFill>
                <a:latin typeface="Times New Roman"/>
                <a:ea typeface="Ebrima"/>
              </a:rPr>
              <a:t>Зачем мы оцениваем?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Чтобы выяснить,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достигнуты ли поставленные учебные цели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гут ли быть разные цели у учащихся?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105264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ирующее оценивание – это…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178920" y="155700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b5edfd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Формирующее (внутреннее) оценивание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елено на определение индивидуальных достижений каждого учащегося и не предполагает как сравнения результатов, продемонстрированных разными учащимися, так и административных выводов по результатам обучения.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b5edfd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ующим данный вид оценивания называется потому, что оценка ориентирована на конкретного ученика, призвана выявить пробелы в освоении учащимся элемента содержания образования с тем, чтобы восполнить их с максимальной эффективностью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7240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имущества критериального подхода к оцениванию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826920" y="2349360"/>
            <a:ext cx="7772400" cy="42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ие тревожност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ивность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ство требований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гранность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ение достижений учащихся с эталоном;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ответственности учащихся за результат своего труда;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самооценки, самоанализа, самоконтроля учащихся.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2T00:14:57Z</dcterms:created>
  <dc:creator>TATJANA</dc:creator>
  <dc:description/>
  <dc:language>en-US</dc:language>
  <cp:lastModifiedBy>Ljadova-NV</cp:lastModifiedBy>
  <dcterms:modified xsi:type="dcterms:W3CDTF">2019-11-18T06:51:39Z</dcterms:modified>
  <cp:revision>27</cp:revision>
  <dc:subject/>
  <dc:title>Педагогический совет по теме:  «Технология формирующего оценивания»  12.02.2015 г. МОУ СОШ №19  г. Комсомольск -  на - Амуре</dc:title>
</cp:coreProperties>
</file>